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7DF-437F-4B73-88AC-9B0D8996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DB8-77E2-4843-8F47-8B063560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9DE-724E-4EBF-89B1-7B2A465F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D75-37CE-4586-8A6D-A75737B5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0103-DC7E-4067-8071-0612F8B5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D48D-05D5-4058-85FB-3E3C8318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C79F-07C0-4408-B493-EB64B449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5A60-F63C-43C1-8E4F-79D56D1C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F594-E379-479D-B1ED-0987B9E9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F8B5-555F-4AA0-9A2D-C8CD7724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89BB-A0A3-477B-AB66-0EDBF737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8F2-E7C8-4E1A-A6CA-0F002CC2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90B5-4BCF-4BF2-8B34-3C871EF9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9A47-051D-47BD-9C0E-FFC64840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8D53-DC49-425F-961A-B662AC88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B066-C9E0-4926-A232-E0AE3EA0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2DF7-77C5-4FA6-A665-9CC5267C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7D7-7408-4E27-AA67-6853F057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123-5E3C-4331-93C1-004C5EB5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181-EFFD-4E3F-A05A-C34EE8CC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33C-53DD-4708-BE06-4B3F3CEF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D0B-F8E7-4667-9BE4-D115C2FA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581-B686-453E-BF15-EF860CE9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CDF-DE76-42FB-B50C-4BB8C17E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09A5-743B-47BB-8645-33D474D7B1B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FC20-0FA5-4B78-8481-71068230D8A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cary scarecr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n he started hunting kids all around the count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336920" cy="17524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8610480" y="6400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3505320" y="5715000"/>
            <a:ext cx="2133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is family never saw him agai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238880" y="4800600"/>
            <a:ext cx="1905120" cy="1886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 rot="20851200">
            <a:off x="304920" y="228240"/>
            <a:ext cx="1509480" cy="1619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5486400"/>
            <a:ext cx="1736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you want to stay alive don’t tell anyon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848720" y="54864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 flipH="1">
            <a:off x="0" y="5791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2:00Z</dcterms:created>
  <dc:creator>dornell frazier</dc:creator>
  <dc:description/>
  <dc:language>en-US</dc:language>
  <cp:lastModifiedBy>dornell frazier</cp:lastModifiedBy>
  <dcterms:modified xsi:type="dcterms:W3CDTF">2010-10-25T18:07:19Z</dcterms:modified>
  <cp:revision>6</cp:revision>
  <dc:subject/>
  <dc:title>Slide 1</dc:title>
</cp:coreProperties>
</file>